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CEE8-0B35-4E67-AE8E-D5529EC6D1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litarytimes.com/multimedia/video/8081634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827F-6F47-4DD7-89C9-99472DB0819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E75-D029-4CB4-9CFA-F9858EA3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477-D267-4D13-BD30-61D0985C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753-8821-43BC-BD2F-84479AC5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5E7-BE96-4847-9684-3529AF45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89F8-3437-4FB2-81C0-721E318D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4644-3351-4A1B-9243-61E45C8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C23-502D-4682-B262-4051CB3F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768A-5A96-4242-8139-CE73E427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AC9-A87D-408F-A1D6-889D3C2C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4C54-BE02-4040-BA8A-7B80A27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43A0-280F-4C9E-96EB-62D43781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2C9-5FC8-4368-BF81-E493B8B5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E69-CF2B-4F0B-A973-9688881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2873-F145-4BF8-8515-C4824039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FC6B-A17F-49D5-828C-419C68E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7007-AA5D-4F1A-A5E7-8C0B4DE2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00D-3DC3-4C2E-AF7D-3C485D08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01F-66D7-4A34-912D-333AE9F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30E-9465-4DC8-A361-FB1C04C6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E4A-4677-4CC6-97F4-E7552D1B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097-48E7-45BD-AC97-A93BEFDF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764-8915-44DD-9031-E6DCD3C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F99-0179-41F6-815C-7967052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62B-71D0-41B1-A506-2C6216C7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590-A5C6-420D-96A2-7141E86B19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5830-EB52-4FC3-B8A2-DD7C826B02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Medic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nda Reilly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istant Ch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ergency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et patient at hospital/at air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mac transf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to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Aircraf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U equipped with MD and ICU RN esc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35 small crafts, crow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45 larger, seats 4 in addition to patient stretcher area and doctor sea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the hospital if 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tarmac if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flight if urg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—examine the patient thoroughly before boarding the j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 all needed interventions prior to take of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intub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chest tub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off and landing O2 concer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bient noise makes it difficult to auscul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ustrophobic for some patients/family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 tanks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 Cas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er Vietnamese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mbodian Deputy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soldiers in Iraq--ps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gladeshi 3 year old--rare brain tumor to cancer center in T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stralian 9 year old--severe spinal cord injury sustained on hol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injured in Mumbai bomb bl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: Common Evacuation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us diseases—dengue, malaria, entamoeba histoly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--scooters/taxis/private vehicles/b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orism/War/Natural Disasters/Epidemics—Pakistan, India, B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sickness—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bious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ly u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/corruption/b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by planes often sporad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care sub-stand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ty hospitals; old broken eqpt; very poor hygien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port—small airports close or open when they want. Visiting dignitaries close airspace. Brib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—Don’t like to lose a pay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—deteriorates prior to depar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stical—weather, traffic, strikes, equipment--Nep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Perk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e and experience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op off the patient and hit the beach/local attr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broad skill set and knowledge base—logistics, aviation medicine, negotiating different cultur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friends all over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ips at S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ship Cap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ise on medical care on limited medical cac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ily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e to NCME if urg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/reroute 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locally, evacuate if nee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ve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porate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nues US $2 Billion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il Ri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ri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gerous jobs/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cac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s trained loc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supply boats or helicop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s: Poor access to rigs at n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rcraft Carri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 aircra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ifficul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che limi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  bag/m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of flight cr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telephone conn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lemedicine: Aircraft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velers may decline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irline personnel well trained—Sing airlines--AED, good protocol, standardized presentation. Others no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a doctor on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emedicine: Diver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divert the pla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is the NC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or in time to get to receiving c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Tea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s on oil rigs/Captains on shi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inor surgical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 case-by-case teaching on ph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Sales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lk about work as 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swer questions regarding what we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information, question and answer sessions for cl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ISOS clinics for special events—e.g., annual meetings,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abroad—University as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trained doctors are highly regarded and highly sough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national Trauma Conferenc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ngapore, Feb 200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John Oh—US Army Surgeon, Afghanis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militarytimes.com/multimedia/video/808163493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evacuation insu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private travelers/NG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une 500 companies and their ex-pat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US military personnel and their families overseas (Tric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il rigs/Airlines-crews,pax/Shi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ing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um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Coordinating do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 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d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rals to local providers and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ice on medical advice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al ad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 transf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--tarm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 c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tcher vs s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—no supplemental O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 through usual chann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medical care in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communication with treating do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return to work site or repatr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medical escort as i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Loc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ISOS Clinics*/ Alarm Cen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jing, Hong Kong,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nom Penh, Cambod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ngon, Myanmar*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khalin Island, Russ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 Chin Minh*, Hanoi, Viet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gkok, Thai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i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i*, Jakarta, Indone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52:29Z</dcterms:created>
  <dc:creator>International SOS Pte Ltd</dc:creator>
  <dc:description/>
  <dc:language>en-US</dc:language>
  <cp:lastModifiedBy>HCMARTINEZ</cp:lastModifiedBy>
  <dcterms:modified xsi:type="dcterms:W3CDTF">2009-09-03T19:09:15Z</dcterms:modified>
  <cp:revision>12</cp:revision>
  <dc:subject/>
  <dc:title> evacuation medicine</dc:title>
</cp:coreProperties>
</file>